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E10FB-D569-4D5F-879A-60DE9E66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30986-A17B-44F5-8AA0-4789915B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7314E-8274-4750-B2E1-80C789D2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CE8BC-49CD-48E7-8683-FC0ECE53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7629-6C25-4FF5-BC23-B6D2D456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5837-F8B9-4DA6-9403-746289B4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E84E-2D50-4450-8F1A-D1C04733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F5C0-0297-48A2-8F6C-2504B460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9984-654A-492A-9601-22A6E360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0258-D671-4D9B-90DD-50858FA1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0C48-EC23-4EAA-BE3E-4637B618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71826-A263-4D48-B187-74508C02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83FF-7335-4295-BFD1-67A5B0B2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1269-BBB5-4B06-9187-0BE7D967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C6A9-707B-40D1-B9D8-E5F606E9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0E06-BA86-4EC3-9FB4-D9667F1C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7579-7582-4369-8B5F-BF523764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75976-8DDF-4DFE-AEEC-3DE4F771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F4DC2-01F5-449A-BE77-8948E007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A4DBF-6D18-4C87-A7BC-320881A4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96614-4F33-4121-B471-78B7FBEA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46099-3D4C-4F94-ACD7-6AE3A566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70271-F086-4249-B4D3-37B264F2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4E7F3-394A-459C-9E3B-75E61EF9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D36C-E4D6-448B-9926-B5C3E03AE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7D51-869D-4EC4-B207-BEDA553570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Arial"/>
                <a:ea typeface="Arial"/>
              </a:rPr>
              <a:t>§</a:t>
            </a:r>
            <a:r>
              <a:rPr b="1" lang="ru-RU" sz="4000" spc="-1" strike="noStrike">
                <a:solidFill>
                  <a:srgbClr val="dfdfe9"/>
                </a:solidFill>
                <a:latin typeface="Garamond"/>
              </a:rPr>
              <a:t>39-41. </a:t>
            </a:r>
            <a:br>
              <a:rPr sz="4000"/>
            </a:br>
            <a:r>
              <a:rPr b="1" lang="ru-RU" sz="4000" spc="-1" strike="noStrike">
                <a:solidFill>
                  <a:srgbClr val="dfdfe9"/>
                </a:solidFill>
                <a:latin typeface="Garamond"/>
              </a:rPr>
              <a:t>Электрическое напряжение. Вольтметр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49528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Правильные ответы: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-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-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-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-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fe9"/>
                </a:solidFill>
                <a:latin typeface="Garamond"/>
              </a:rPr>
              <a:t>Электрическое напряжение</a:t>
            </a:r>
            <a:br>
              <a:rPr sz="3200"/>
            </a:b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Какую работу 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А</a:t>
            </a: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 совершает на данном участке ток при перемещении по этому участку электрического заряда</a:t>
            </a:r>
            <a:r>
              <a:rPr b="1" lang="en-US" sz="2000" spc="-1" strike="noStrike">
                <a:solidFill>
                  <a:srgbClr val="dfdfe9"/>
                </a:solidFill>
                <a:latin typeface="Garamond"/>
              </a:rPr>
              <a:t> q</a:t>
            </a: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, равного 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1 Кл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dfdfe9"/>
                </a:solidFill>
                <a:latin typeface="Garamond"/>
              </a:rPr>
              <a:t>U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 – напряжение </a:t>
            </a:r>
            <a:endParaRPr b="1" lang="en-US" sz="2000" spc="-1" strike="noStrike">
              <a:solidFill>
                <a:srgbClr val="dfdfe9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3"/>
              <p:cNvSpPr txBox="1"/>
              <p:nvPr/>
            </p:nvSpPr>
            <p:spPr>
              <a:xfrm>
                <a:off x="3505320" y="1828800"/>
                <a:ext cx="121896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685800" y="1600200"/>
                <a:ext cx="12952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U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AutoShape 7"/>
          <p:cNvSpPr/>
          <p:nvPr/>
        </p:nvSpPr>
        <p:spPr>
          <a:xfrm>
            <a:off x="2209680" y="1981080"/>
            <a:ext cx="1067040" cy="228600"/>
          </a:xfrm>
          <a:prstGeom prst="leftArrow">
            <a:avLst>
              <a:gd name="adj1" fmla="val 50000"/>
              <a:gd name="adj2" fmla="val 116693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4952880" y="19810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172200" y="1828800"/>
            <a:ext cx="266688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В = 1 Дж/К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мВ = 0,001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кВ = 1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10"/>
          <p:cNvSpPr/>
          <p:nvPr/>
        </p:nvSpPr>
        <p:spPr>
          <a:xfrm>
            <a:off x="4038480" y="29718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3124080" y="3429000"/>
            <a:ext cx="1981440" cy="175140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ЛЬТМЕТ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ключают в цепь параллельн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3886200" y="3809880"/>
            <a:ext cx="533520" cy="45720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96252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419720" y="40384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Line 16"/>
          <p:cNvSpPr/>
          <p:nvPr/>
        </p:nvSpPr>
        <p:spPr>
          <a:xfrm flipH="1">
            <a:off x="3580920" y="4038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5486400" y="3429000"/>
            <a:ext cx="3657600" cy="281340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. Вольта (ит. 1745-1827 гг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 В – напряжение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при котором электрическое поле совершает работ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= 1 Дж при перемещении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= 1 К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0" y="3809880"/>
            <a:ext cx="2895480" cy="287172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304920" y="41148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1600200" y="41148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2743200" y="41148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304920" y="41148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304920" y="5257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1143000" y="4038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1600200" y="3962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Oval 27"/>
          <p:cNvSpPr/>
          <p:nvPr/>
        </p:nvSpPr>
        <p:spPr>
          <a:xfrm>
            <a:off x="1066680" y="5638680"/>
            <a:ext cx="457200" cy="38124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Oval 28"/>
          <p:cNvSpPr/>
          <p:nvPr/>
        </p:nvSpPr>
        <p:spPr>
          <a:xfrm>
            <a:off x="1066680" y="6248520"/>
            <a:ext cx="457200" cy="38088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29"/>
          <p:cNvSpPr/>
          <p:nvPr/>
        </p:nvSpPr>
        <p:spPr>
          <a:xfrm flipV="1">
            <a:off x="1143000" y="571464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Line 30"/>
          <p:cNvSpPr/>
          <p:nvPr/>
        </p:nvSpPr>
        <p:spPr>
          <a:xfrm>
            <a:off x="1143000" y="571500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Line 31"/>
          <p:cNvSpPr/>
          <p:nvPr/>
        </p:nvSpPr>
        <p:spPr>
          <a:xfrm>
            <a:off x="304920" y="58672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Line 32"/>
          <p:cNvSpPr/>
          <p:nvPr/>
        </p:nvSpPr>
        <p:spPr>
          <a:xfrm>
            <a:off x="1523880" y="58672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Line 33"/>
          <p:cNvSpPr/>
          <p:nvPr/>
        </p:nvSpPr>
        <p:spPr>
          <a:xfrm flipH="1">
            <a:off x="152280" y="4800600"/>
            <a:ext cx="1526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Line 34"/>
          <p:cNvSpPr/>
          <p:nvPr/>
        </p:nvSpPr>
        <p:spPr>
          <a:xfrm flipH="1">
            <a:off x="685800" y="6477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Line 36"/>
          <p:cNvSpPr/>
          <p:nvPr/>
        </p:nvSpPr>
        <p:spPr>
          <a:xfrm>
            <a:off x="1523880" y="6477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1828800" y="5867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Line 38"/>
          <p:cNvSpPr/>
          <p:nvPr/>
        </p:nvSpPr>
        <p:spPr>
          <a:xfrm flipV="1">
            <a:off x="685800" y="5867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Line 39"/>
          <p:cNvSpPr/>
          <p:nvPr/>
        </p:nvSpPr>
        <p:spPr>
          <a:xfrm>
            <a:off x="9144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Line 41"/>
          <p:cNvSpPr/>
          <p:nvPr/>
        </p:nvSpPr>
        <p:spPr>
          <a:xfrm>
            <a:off x="18288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Line 42"/>
          <p:cNvSpPr/>
          <p:nvPr/>
        </p:nvSpPr>
        <p:spPr>
          <a:xfrm>
            <a:off x="1905120" y="3962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Line 44"/>
          <p:cNvSpPr/>
          <p:nvPr/>
        </p:nvSpPr>
        <p:spPr>
          <a:xfrm flipH="1">
            <a:off x="914400" y="5486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Line 45"/>
          <p:cNvSpPr/>
          <p:nvPr/>
        </p:nvSpPr>
        <p:spPr>
          <a:xfrm>
            <a:off x="838080" y="6324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Line 46"/>
          <p:cNvSpPr/>
          <p:nvPr/>
        </p:nvSpPr>
        <p:spPr>
          <a:xfrm>
            <a:off x="1600200" y="6324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Line 47"/>
          <p:cNvSpPr/>
          <p:nvPr/>
        </p:nvSpPr>
        <p:spPr>
          <a:xfrm>
            <a:off x="1676520" y="6248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Примеры типичных напряжений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й фонарь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4,5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пряжение в сети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2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вигатель троллейбуса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6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инескоп телевизора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6 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пряжение между облаками во время грозы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00 000 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езопасное электрическое напряжение в сыром помещении – 12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езопасное электрическое напряжение в сухом помещении – 36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е рыб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й скат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0–6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ильский электрический сом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5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горь-электрофорус свыше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Ток высокого напряжени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опасен для жизни человек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Разгадайте ребус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905120" y="1015920"/>
            <a:ext cx="52578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Д/З.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§39-41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  <a:ea typeface="Arial"/>
              </a:rPr>
              <a:t>.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3279600"/>
            <a:ext cx="80773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http://www.all-fizika.com/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Цели и задачи урока: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изучить понятие напряжения на участке цепи, его единицы измерения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учиться пользоваться вольтметром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учиться применять полученные знания на практик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Тест «Сила тока. Единицы силы тока»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ccec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Сила ток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это физическая величина, равная 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А)…электрическому заряду, прошедшему по электрической цепи за время её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)… электрическому заряду, прошедшему в цепи через поперечное сечение проводни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)… электрическому заряду, прошедшему в цепи через поперечное сечение проводника за 1 с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Г)… электрическому заряду, перемещённому за 1 с от положительного полюса источника тока к отрицательном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dfe9"/>
                </a:solidFill>
                <a:latin typeface="Garamond"/>
              </a:rPr>
              <a:t>2. По какой формуле определяют силу тока?</a:t>
            </a:r>
            <a:br>
              <a:rPr sz="2800"/>
            </a:br>
            <a:endParaRPr b="1" lang="en-US" sz="2800" spc="-1" strike="noStrike">
              <a:solidFill>
                <a:srgbClr val="dfdfe9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5867280" y="870120"/>
                <a:ext cx="1785960" cy="20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 txBox="1"/>
          <p:nvPr/>
        </p:nvSpPr>
        <p:spPr>
          <a:xfrm>
            <a:off x="380520" y="3809880"/>
            <a:ext cx="8001000" cy="24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)                                                     Г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А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Б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1"/>
              <p:cNvSpPr txBox="1"/>
              <p:nvPr/>
            </p:nvSpPr>
            <p:spPr>
              <a:xfrm>
                <a:off x="914400" y="1106640"/>
                <a:ext cx="196704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2"/>
              <p:cNvSpPr txBox="1"/>
              <p:nvPr/>
            </p:nvSpPr>
            <p:spPr>
              <a:xfrm>
                <a:off x="1066680" y="3733920"/>
                <a:ext cx="1905120" cy="16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13"/>
              <p:cNvSpPr txBox="1"/>
              <p:nvPr/>
            </p:nvSpPr>
            <p:spPr>
              <a:xfrm>
                <a:off x="5715000" y="3581280"/>
                <a:ext cx="1981080" cy="17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3. Как названа единица силы тока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Джоуль (Дж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Ватт (Вт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Кулон (Кл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Ампер (А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4. Выразите силы тока, равные 0,3 А и 0,03 кА, в миллиамперах?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30 мА и 3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300 мА и 30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300 мА и 3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30 мА и 30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5.Переведите в миллиамперы силы тока, равные 0,05 А и 5 А.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50 мА и 5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500 мА и 5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500 мА и 5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50 мА и 0,005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6. Чему равны в амперах силы тока 800 мкА и 0,2 кА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0,008 А и 20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0,0008 А и 2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0,0008 А и 20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0,008 А и 2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7. Какова сила тока в цепи, если в течение 240 с сквозь её поперечное сечение прошёл заряд 120 Кл?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3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0,5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5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3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ey</cp:lastModifiedBy>
  <dcterms:modified xsi:type="dcterms:W3CDTF">2012-02-20T14:33:44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